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D5C-2BEB-4521-B605-1F159DAE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818-8C16-4835-9996-CDD30DFE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912-F527-4A29-B01D-B00D97BF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994-EDEF-493B-AE3D-9E2FFD60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9412-6BD6-41DA-A779-B0A9E6D3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BE5-5230-4DBE-A584-5B419E2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85D8-B027-4CF5-851D-ADE090C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4B94-BDD2-43CA-BB16-4E95E07A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F20E-A8B8-4FDE-B22E-6A5F1C8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16D6-DBD1-4675-B9E4-D1484A4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F362-714D-458C-8157-A3EA364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FA2-B082-47FE-B3F2-AB9E1371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DDB7-20E5-44AC-BFC4-345BEB1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4120-6A6A-4D50-88A6-42487464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2B08-A6A6-4DED-831E-53EE3D18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A712-6E01-4F0D-B70C-D31927E5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F94-80EE-4107-9DC2-F0F7E762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173C-08BB-44B8-9812-D18A798E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A747-C3FC-40CB-BF6F-BDB3C5D3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73C5-1876-46EA-BE5D-85F9ADEA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2D92-15A6-4A2E-8827-839259C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853A-C019-4784-9BE4-1452FDC7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5FD-976E-4E22-B5DF-FB4F034F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F3CE-8BDB-4606-B0F3-7498CC36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8CB1-0028-421A-BD84-EB093FD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EBAB-DE34-492B-A75C-D56AF6C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611F-2579-4BD6-86B2-2C354FB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39C6-D62C-40BA-9129-873DC7FC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D339-2D55-4728-AE36-B2CC4D46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80A0-05EB-4A3E-BAE5-DEB4798E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1639-B9B4-4E2F-855C-37E2A08E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765E-D4A0-42D0-9B5C-B5B6724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5B43-629C-4529-91A3-5830703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39C-5C20-4D5A-8730-105013F6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1536-5FC4-4D37-947D-8283030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14AA-E712-40C8-BCB2-C628EFD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F3D7-C47D-43D8-B3D2-B41AF678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61597-82FE-4ACF-8D52-12C7640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AE3C-6083-4BEF-B8E1-A11DA025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B2A3-C5F5-4A87-96DC-9ACAA091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2B9D-5C9A-4EC8-8D29-531A245D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B89C-646A-415C-8FB1-9C9CECCE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3CA1-140F-48A7-A549-E1769748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4CBA-26CB-4AD3-984A-3988D0DE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ED1-7E0E-4320-B815-B8E6EC7C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D821-5D77-4C14-8DEB-F98C21C3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EBF0-DD08-496B-9C80-CC12F7A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1A88-53F9-4C8F-89A6-DCE2BF35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E9DE-0470-43C9-B053-2CE23F0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93E1-F9F3-46FA-8876-4CF6F2C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5F56-38A8-483B-BB21-EABA080C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728C-E17A-410B-8E3E-0C2B6820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B930-4FC5-4178-B47A-7EA271D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7A4EB-1C76-4216-BE85-1D473AB4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3CA3-326E-47B9-8E17-9208E09D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264-6203-476B-844F-5C0BE636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0AD49-D20E-4B69-B36D-C9AB17F2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E567-5274-46B0-8207-4A92B2E8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EED73-C371-4120-B0AD-6AB9F2BB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8A83-513B-4269-9332-452B01ED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20DC-D97E-4450-9218-F0C1E677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D1CA1-D2BD-4F01-9D1F-4A1F0FD0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E59FD-0460-4987-B02F-D2DBB8DA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092C2-AA7D-48E7-A0A0-E7057AB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2AA64-3455-4FEE-84D3-C9A229D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CC3E-6F49-4057-9D17-E4D5224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CFB-8EF4-4009-B08C-EB1B839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B7EDB-C208-4CD0-ABFB-2B72325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7AECD-3ADD-471A-B173-2769ABBA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195BB-4136-4BC0-97A9-EADE5A66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D2EF-98F8-4C19-8B40-09BA5C36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9541-6EC7-404A-BF2A-B8E1ADE9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4317A-51B7-4518-826C-27A86B7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AED4-05FF-4256-9EED-C580B76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2018-7E0E-4521-B5F3-033101A0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89B5A-52F6-4C74-9DC5-D3EA233F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97A0D-BD01-4644-BEBA-9BEC814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59C-9BCB-43D0-87DF-73FCB52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0A0FD-F796-41D0-9321-750E316A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0A19-0ACA-4129-B4AF-9F4A09D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353F9-72B2-42AF-9606-70DD756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C05AE-D199-46AE-ACBE-9ECDA719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7737-5763-4E86-A76E-ED469251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7A892-8F56-4934-95B6-80546F09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0D397-F965-42BE-97D4-1876E3F5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C845-3904-4D77-BD0B-DC0636E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1438-D116-4091-BE63-A3A2E1E3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1894-46CF-41AF-A689-E31E48A3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7DC-78A0-42D6-92C5-CC02493D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58012-BE1F-47AE-ADD4-70AD5045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35F6-AB23-445C-BC6A-6BD91EBA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D70D-C16F-476F-8868-38F080D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6DF8-3156-4F81-8347-88B48AE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1915-6A10-4014-AB03-D608F4C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610C2-C360-4E14-8A3A-9D30B5A7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CE8DC-3386-40B1-92E8-0573C186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6D6-7A28-4078-BD11-D57EA59987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35C7-9CCD-4833-84EB-98142C82F36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95F2-73F8-4488-BC35-BE58BBF2003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D20-1AAB-4B2D-B676-3519F87536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D017-72F9-4710-9B0B-D92D5A7895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9F5-CF96-479A-809A-F8D0268858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A13-CA24-4FA6-8ECD-2AA45B6507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6E78-2DA6-4CD8-BBEA-BCF1B7B346E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NYSkylineiStock.jpg"/>
          <p:cNvPicPr/>
          <p:nvPr/>
        </p:nvPicPr>
        <p:blipFill>
          <a:blip r:embed="rId1"/>
          <a:stretch/>
        </p:blipFill>
        <p:spPr>
          <a:xfrm>
            <a:off x="838080" y="152280"/>
            <a:ext cx="2819520" cy="335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ptember_11_attack_7.jpg"/>
          <p:cNvPicPr/>
          <p:nvPr/>
        </p:nvPicPr>
        <p:blipFill>
          <a:blip r:embed="rId2"/>
          <a:stretch/>
        </p:blipFill>
        <p:spPr>
          <a:xfrm>
            <a:off x="5334120" y="228600"/>
            <a:ext cx="2057400" cy="317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sept11.jpg"/>
          <p:cNvPicPr/>
          <p:nvPr/>
        </p:nvPicPr>
        <p:blipFill>
          <a:blip r:embed="rId3"/>
          <a:stretch/>
        </p:blipFill>
        <p:spPr>
          <a:xfrm>
            <a:off x="4724280" y="35812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wtc_arp_500pix.jpg"/>
          <p:cNvPicPr/>
          <p:nvPr/>
        </p:nvPicPr>
        <p:blipFill>
          <a:blip r:embed="rId4"/>
          <a:stretch/>
        </p:blipFill>
        <p:spPr>
          <a:xfrm>
            <a:off x="457200" y="3886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7"/>
          <p:cNvSpPr/>
          <p:nvPr/>
        </p:nvSpPr>
        <p:spPr>
          <a:xfrm>
            <a:off x="3809880" y="1676520"/>
            <a:ext cx="11430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rved Left Arrow 8"/>
          <p:cNvSpPr/>
          <p:nvPr/>
        </p:nvSpPr>
        <p:spPr>
          <a:xfrm>
            <a:off x="7620120" y="2133720"/>
            <a:ext cx="990360" cy="2895480"/>
          </a:xfrm>
          <a:custGeom>
            <a:avLst/>
            <a:gdLst>
              <a:gd name="textAreaLeft" fmla="*/ 132480 w 990360"/>
              <a:gd name="textAreaRight" fmla="*/ 857880 w 990360"/>
              <a:gd name="textAreaTop" fmla="*/ 631080 h 2895480"/>
              <a:gd name="textAreaBottom" fmla="*/ 2140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3561465"/>
                <a:lnTo>
                  <a:pt x="5400" y="21301"/>
                </a:lnTo>
                <a:lnTo>
                  <a:pt x="0" y="19753"/>
                </a:lnTo>
                <a:lnTo>
                  <a:pt x="5400" y="17606"/>
                </a:lnTo>
                <a:lnTo>
                  <a:pt x="5400" y="18530"/>
                </a:lnTo>
                <a:arcTo wR="21600" hR="9415" stAng="3561465" swAng="-3413863"/>
                <a:lnTo>
                  <a:pt x="21496" y="10338"/>
                </a:lnTo>
                <a:arcTo wR="21600" hR="9415" stAng="-147601" swAng="-5252399"/>
                <a:close/>
              </a:path>
              <a:path fill="darkenLess"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-147601"/>
                <a:lnTo>
                  <a:pt x="21496" y="10338"/>
                </a:lnTo>
                <a:arcTo wR="21600" hR="9415" stAng="-147601" swAng="-5252399"/>
                <a:close/>
              </a:path>
            </a:pathLst>
          </a:cu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3733920" y="4952880"/>
            <a:ext cx="6858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1066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ARIFAH BT KADIR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PB08021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ITLE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RISK MANAGEMENT PLAN AND PROJECT MANAGEMENT PERFORMANC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2952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kgrou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 knowledge area in project man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nvestigate the importance of risk management plan and its effects on project management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earch qu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is the standard measure for a ris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la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are the important of risk management plan i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ject manageme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How is the risk management plan effect on projec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erform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project management 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tru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rvey questionnai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ject management based organization in Kuant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housing and develop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petrochemica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cipa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00 project manag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ta collection techniq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worlds_tallest_building_burj_dubai_klcc_tower_skyscrapper.png"/>
          <p:cNvPicPr/>
          <p:nvPr/>
        </p:nvPicPr>
        <p:blipFill>
          <a:blip r:embed="rId1"/>
          <a:stretch/>
        </p:blipFill>
        <p:spPr>
          <a:xfrm>
            <a:off x="83808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61874061_f683685f4a.jpg"/>
          <p:cNvPicPr/>
          <p:nvPr/>
        </p:nvPicPr>
        <p:blipFill>
          <a:blip r:embed="rId3"/>
          <a:stretch/>
        </p:blipFill>
        <p:spPr>
          <a:xfrm>
            <a:off x="762120" y="3962520"/>
            <a:ext cx="3022560" cy="274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1320klcc20garden20and20petronas20towers1.jpg"/>
          <p:cNvPicPr/>
          <p:nvPr/>
        </p:nvPicPr>
        <p:blipFill>
          <a:blip r:embed="rId4"/>
          <a:stretch/>
        </p:blipFill>
        <p:spPr>
          <a:xfrm>
            <a:off x="5029200" y="8380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6:17Z</dcterms:created>
  <dc:creator>user</dc:creator>
  <dc:description/>
  <dc:language>en-US</dc:language>
  <cp:lastModifiedBy>user</cp:lastModifiedBy>
  <dcterms:modified xsi:type="dcterms:W3CDTF">2010-04-11T09:53:17Z</dcterms:modified>
  <cp:revision>23</cp:revision>
  <dc:subject/>
  <dc:title>Slide 1</dc:title>
</cp:coreProperties>
</file>