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005-0D50-441A-AAE0-D3F833BB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97A-8720-4687-B6E0-66D46DD1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FAC-E8F4-462C-A06C-5598D7FB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058-A2B6-4497-B302-4826A4E9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D79-0C58-41D0-A05D-BC8C2C3C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2FC-8E52-453B-B4B6-5B7D7215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ADC6-BE91-4407-9E9F-D8A25FA5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FA53-08FC-462D-B48C-48B7B966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4C75-4B36-44EA-9A70-DE075A49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AAF4-6C14-449C-8530-E46DCAB3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018F-5632-4104-9F54-4D66A0F9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172-FD83-470B-8E50-4E6D4BB8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FA70-4346-4764-ABC4-883D0DAF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5EF2-2BCD-4C00-AFA3-24B23D6D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CA7D-10B4-41B1-9003-75BD09A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C908-CD36-4B3E-B5E2-9E64B3F3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D3FE-445D-4ADB-AE64-9E78356B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1F05-0D4A-45B3-9A8D-EAB78291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40EF-95E5-4C1C-953A-734B51A5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75B8-F651-465B-BD0F-C749D7A7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8617-D6AB-4290-851C-7DE8D7C8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7A5D-B8E2-4DFB-A777-67BE0809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644-922A-4C36-8611-C54806C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313C-57DA-4225-ABB4-4B679981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98E4-0007-4A7B-A3CB-22A9FE8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E1A9-A125-48AB-A890-7FD9E00C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1855-4867-46BF-96B2-A302C46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FFEA-0144-41B2-8A3C-3A3215D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4EBC-95BF-4BB6-BFA7-CF9374F6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1D1E-E4FB-4D83-967E-52386AA8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27E3-F92E-45B9-A53B-98CDF5E1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C60E-0E43-4BCE-AC13-4392A455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1116-1678-44BA-9E64-77472A87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C0E-3C2E-4B35-A008-F48B7F93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D712-DC35-4028-B22C-4DE2BF4B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6DFBC-08A4-4EB5-BA9F-8E915A41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C89C-6F93-4196-8329-75773BF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5843-01A3-43EE-BCBC-664A9A3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D043-97E6-40FF-A52A-51FC78B3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1D5E4-E3AF-4357-A827-D88DB2C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FB70A-A227-4B62-9446-4EC0E6CC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9DAF-A707-47EB-9C20-88B686E3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C0BA-5A1C-401B-8B9A-E286DE74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99E9-9EDE-424C-948B-D64144F7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A3A-AE17-45D6-AC75-C7D2C75C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5247-F3B8-4190-9102-5F448340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6336-ECEB-4387-ADA7-8B40AC60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5EF3F-B6C0-46B1-B66F-EF50C9C5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C17DC-B5E5-48B1-BF50-4D4FAD4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4C5B-6CAE-4D5D-8211-1EACDA25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6590C-F859-4606-B2EA-88D7477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46A61-65E6-44E0-8D46-39EFFBA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8A33-FE4B-4EB2-BAE7-CF7A6092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F59C-1309-4823-BF68-0E473DCE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28F69-3415-4D45-AC62-E6C3BC1F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0BF-BAC6-4B57-85F5-E9376588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B069-AADE-4C1B-A86A-F29139DF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D986C-B27F-48FD-88F7-BD05C5D8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0841-6B38-4AE8-BE52-5B88C64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848F-AF27-482C-BA88-21E2CC75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B6CB9-F9E6-47B2-9B27-784C100F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CB176-7B2E-4C54-AFBD-4F2B34B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BD14F-350B-48D8-86D2-2605F5B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ED844-2F31-4219-81FF-FEA583E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80C67-ECD4-45C5-A518-2415726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BDEA-1F8A-472A-8408-0FFDDBB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2CA-5CA7-4006-8B6B-47F395B5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CCAF-5100-4921-9D81-30E1A94C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721C-881D-48E8-8FBF-8511AB7E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94B6-B22A-400D-B716-DA73B6DE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BAAC5-1497-4B4C-B49B-E60C0B6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2268-7F97-438E-988C-05A37AA0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5F84F-4084-40B0-B7B8-5ACB689B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34630-1FB8-49D8-90F3-A55AF321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39177-0941-4CA3-A353-ADCCF2E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DFC63-D15D-43D4-908A-58D7AFB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0BF1-3E9D-4F52-AEAE-84B73B4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04E-AEDB-4E26-8AE9-1B9EAB8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0FEB4-6B05-4AB1-9A03-0761CD3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0763D-8536-4A1A-9348-A29897AC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0C52-021B-4521-B8BD-9F49D1A8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0B015-DE66-47A7-8972-656377DB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BA3E-524A-403C-8378-1C15A55B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390A3-5B68-4F93-8C92-42DDC25C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ED1D9-C9CB-48A7-950D-814A7201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15E2-F30E-4584-91BB-A17A0356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BF2FA-9A0E-4314-92A8-1A97505E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8AEB-3D4F-47F6-B9D8-363E81D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BE9-F284-456A-A86C-F32ABE9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D8D98-BB53-45CD-AC38-C938153E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A23B0-CABA-4648-AEE6-76B2205C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246A-3988-4B58-8605-4656186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EC54F-800E-48C3-BDA0-C6184682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AEBA-5937-47C9-B5A5-E5068C6C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D496A-E3D1-4C4D-BE46-373595D2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A4954-9D6E-41E6-88D0-D76CDEF7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27C-24F5-40EA-A46F-4FDA7C2C5D5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325-AD37-44AF-940E-7189454EF69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03E-F5F2-4C22-A75C-83C57D065C8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2BE-2B02-4443-8E48-DFD6F814968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7BAB-D565-4F36-AEF6-1186F11142B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C988-D8A8-4DDC-BB6D-A3B54347D6B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8154-E352-4374-AE10-3D57CAF5D5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FD6-C824-4F06-ABBE-F485209A93B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NYSkylineiStock.jpg"/>
          <p:cNvPicPr/>
          <p:nvPr/>
        </p:nvPicPr>
        <p:blipFill>
          <a:blip r:embed="rId1"/>
          <a:stretch/>
        </p:blipFill>
        <p:spPr>
          <a:xfrm>
            <a:off x="838080" y="152280"/>
            <a:ext cx="2819520" cy="335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september_11_attack_7.jpg"/>
          <p:cNvPicPr/>
          <p:nvPr/>
        </p:nvPicPr>
        <p:blipFill>
          <a:blip r:embed="rId2"/>
          <a:stretch/>
        </p:blipFill>
        <p:spPr>
          <a:xfrm>
            <a:off x="5334120" y="228600"/>
            <a:ext cx="2057400" cy="317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sept11.jpg"/>
          <p:cNvPicPr/>
          <p:nvPr/>
        </p:nvPicPr>
        <p:blipFill>
          <a:blip r:embed="rId3"/>
          <a:stretch/>
        </p:blipFill>
        <p:spPr>
          <a:xfrm>
            <a:off x="4724280" y="35812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wtc_arp_500pix.jpg"/>
          <p:cNvPicPr/>
          <p:nvPr/>
        </p:nvPicPr>
        <p:blipFill>
          <a:blip r:embed="rId4"/>
          <a:stretch/>
        </p:blipFill>
        <p:spPr>
          <a:xfrm>
            <a:off x="457200" y="3886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7"/>
          <p:cNvSpPr/>
          <p:nvPr/>
        </p:nvSpPr>
        <p:spPr>
          <a:xfrm>
            <a:off x="3809880" y="1676520"/>
            <a:ext cx="11430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rved Left Arrow 8"/>
          <p:cNvSpPr/>
          <p:nvPr/>
        </p:nvSpPr>
        <p:spPr>
          <a:xfrm>
            <a:off x="7620120" y="2133720"/>
            <a:ext cx="990360" cy="2895480"/>
          </a:xfrm>
          <a:custGeom>
            <a:avLst/>
            <a:gdLst>
              <a:gd name="textAreaLeft" fmla="*/ 132480 w 990360"/>
              <a:gd name="textAreaRight" fmla="*/ 857880 w 990360"/>
              <a:gd name="textAreaTop" fmla="*/ 631080 h 2895480"/>
              <a:gd name="textAreaBottom" fmla="*/ 21405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3561465"/>
                <a:lnTo>
                  <a:pt x="5400" y="21301"/>
                </a:lnTo>
                <a:lnTo>
                  <a:pt x="0" y="19753"/>
                </a:lnTo>
                <a:lnTo>
                  <a:pt x="5400" y="17606"/>
                </a:lnTo>
                <a:lnTo>
                  <a:pt x="5400" y="18530"/>
                </a:lnTo>
                <a:arcTo wR="21600" hR="9415" stAng="3561465" swAng="-3413863"/>
                <a:lnTo>
                  <a:pt x="21496" y="10338"/>
                </a:lnTo>
                <a:arcTo wR="21600" hR="9415" stAng="-147601" swAng="-5252399"/>
                <a:close/>
              </a:path>
              <a:path fill="darkenLess"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-147601"/>
                <a:lnTo>
                  <a:pt x="21496" y="10338"/>
                </a:lnTo>
                <a:arcTo wR="21600" hR="9415" stAng="-147601" swAng="-5252399"/>
                <a:close/>
              </a:path>
            </a:pathLst>
          </a:cu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3733920" y="4952880"/>
            <a:ext cx="6858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1066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ARIFAH BT KADIR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PB08021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ITLE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RISK MANAGEMENT PLAN AND PROJECT MANAGEMENT PERFORMANC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2952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ckgrou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 knowledge area in project man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nvestigate the importance of risk management plan and its effects on project management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earch ques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is the standard measure for a ris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la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are the important of risk management plan in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ject manageme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How is the risk management plan effect on projec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erforman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project management perform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tru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rvey questionnai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ject management based organization in Kuant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housing and develop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ev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petrochemical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ticipa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00 project manag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ata collection techniq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Content Placeholder 3" descr="worlds_tallest_building_burj_dubai_klcc_tower_skyscrapper.png"/>
          <p:cNvPicPr/>
          <p:nvPr/>
        </p:nvPicPr>
        <p:blipFill>
          <a:blip r:embed="rId1"/>
          <a:stretch/>
        </p:blipFill>
        <p:spPr>
          <a:xfrm>
            <a:off x="838080" y="1219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61874061_f683685f4a.jpg"/>
          <p:cNvPicPr/>
          <p:nvPr/>
        </p:nvPicPr>
        <p:blipFill>
          <a:blip r:embed="rId3"/>
          <a:stretch/>
        </p:blipFill>
        <p:spPr>
          <a:xfrm>
            <a:off x="762120" y="3962520"/>
            <a:ext cx="3022560" cy="274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1320klcc20garden20and20petronas20towers1.jpg"/>
          <p:cNvPicPr/>
          <p:nvPr/>
        </p:nvPicPr>
        <p:blipFill>
          <a:blip r:embed="rId4"/>
          <a:stretch/>
        </p:blipFill>
        <p:spPr>
          <a:xfrm>
            <a:off x="5029200" y="8380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6:17Z</dcterms:created>
  <dc:creator>user</dc:creator>
  <dc:description/>
  <dc:language>en-US</dc:language>
  <cp:lastModifiedBy>user</cp:lastModifiedBy>
  <dcterms:modified xsi:type="dcterms:W3CDTF">2010-04-11T09:53:17Z</dcterms:modified>
  <cp:revision>23</cp:revision>
  <dc:subject/>
  <dc:title>Slide 1</dc:title>
</cp:coreProperties>
</file>