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16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9A91-5D32-4965-A31A-859D6BB13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D153-B1D9-4666-91F6-D10F130F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DDF-05A6-463E-96C4-8A3636853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B655-F2A3-496A-BBA7-3C40C9BA6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26F8-0163-41DE-9A3A-45ADCF3E6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38FE8-A6A9-4E49-AD4B-7BF397DBD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845A-686D-420B-AE54-9D6BF68EE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F360-256F-4C48-958B-CFEEEEED3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1065D-347F-4494-A86D-D404A346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D5697-ECD0-45D8-A6D6-CCA3B715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E87B0-BD93-4AE9-A501-021AC312A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F0393-6239-4F32-9155-1F030CFB8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F1D5-046E-4ACE-9B83-4FFC632B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CECCD-1318-445C-B1F0-043E66D26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D4862-CE1A-4BC7-9F71-8CB3044AA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6FF5A-7024-476A-971C-9D1B9F453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41D7-568C-4C2F-B073-AAB9C11A1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6CBBB-7E87-49F4-B02A-BBB611DDC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9ED6-BCA4-4AAF-80F8-ED7F9145D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5E721-B2C9-4D2A-ACA9-2A374DD3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29D5-BC1F-4F32-B0DE-222A4C63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1DB407-5B50-4641-9B7A-33F71F3F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DB79-0EF7-4653-98B4-A01EA0CB1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AC1D2E-CF6C-41E0-B9DE-C252E0128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4AD7D-6108-4437-BEAD-C1E43475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68099-9108-40F7-982D-20108CD8E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0FDA63-5BD2-43A3-8D91-18D7BFF04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69768-3BB7-4572-8745-AFD2B0958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14D519-A4F2-43E2-AC45-CF00E0C9A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29399-5F3F-4E87-8221-B6D8B23A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7EBA1-2895-441F-BB0C-A19FEB3AF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70D69-A241-41D1-866A-7CBA25B1E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00C4B-4AA7-4524-8E05-304F77DE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D8D-BEDC-42B6-834C-7B8150C0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D58B9-9ED9-436A-B715-D8248E519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B69A3-61B7-4862-91A5-63C5E06A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C21D8-94F9-4F07-BABB-C5D70C1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FC48BB-E050-4C13-AEBB-D624A41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898891-221B-40FD-B780-B359D122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9AE8-BBE5-4C13-B061-B3468BC5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7ADD0A-DA28-4A48-9989-4E1932375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E0BE2A-1F4A-4D67-97AD-4192E027B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6FE74E-CB9D-457F-A385-F50CA7973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1DAEF1-9354-43C6-AF23-E1FFEEFDA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F50D-8B9E-4681-B6A7-A715199DF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E67C95-EAE9-44EC-BD11-E7B95E7DF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9B1293-26AC-452C-90E8-2CC1C2F6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293B14-C246-4D36-81A0-2D00C63AB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2CCF4D-F50F-4FBA-B309-B05BC1B0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C83BDD-DB4B-4944-BE81-3890667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73D0-A1E1-4D0A-8CDB-32469EEF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A70BA5-2D80-4F5F-9B75-7C8315AD9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6FF831-0778-4F3D-8E6E-05B4785FD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E7E1D4-EF0A-4AAA-AEF6-D7485D22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E25E2A-7F1D-41EC-BBB0-4EF43D778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B8F8-B9C2-43B2-8C40-16E198C5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FC596A-B305-48ED-A588-AEC0984B9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DD7796-6D45-4D11-AF47-C2C78684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3349F-0B6F-4F34-89E7-ABB353D9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08906D-F4D9-4119-BF0B-D652B377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6FEAA4-F71C-4B7A-8D7F-0956F256B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983C4A-7965-42E1-97A4-D566A6A3D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A8552-EAFC-4998-894D-A045F0D6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CDFD5C-EB5D-4C18-91B2-6F094B5AA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CB291-9833-4D84-8CCE-5195D03E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93405C-13AE-40BB-AA18-61FC592D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55BA-6697-43E8-9E20-AC9FF47A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955E20-238A-446E-9955-310483C6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1BB5DA-A929-492E-AB2F-033175338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9E8700-2FD1-4CC5-8FD2-6C4C6E5AD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017E2C-7239-4BCA-913F-BC720FE9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15225-0BC6-42A8-845F-68B99033A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270FB-38AC-46A3-AD09-984CC0E9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AE1F6D-6AFD-4AD7-8D45-6A399581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E0056-92AD-44B1-886C-7D6D936D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90E109-D500-45D3-ACBB-EC511A58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0DC338-85E2-43A4-A2A4-368C140F0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AECB-2484-4E52-B851-678C7709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200C99-D4F7-42ED-A7C2-6FFF25A2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A6CC48-D0DE-4428-A771-A12A1EF9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E589E1-AD47-4CB4-A37E-513913D47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0693E-6802-4199-AC80-1D396ECB6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6550EE-A878-4DB1-8485-DCEF04979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E58E74-B93C-4C3D-8CDD-5476E6851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CF457-4E99-4063-815D-74518A3C5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C5183-96F9-4CD7-ABB9-B9DBFCD94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A5D5B5-7F0C-43C6-A72A-CBE006B06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D55EE4-411A-4920-93BE-A19B44E2B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9644-7BA5-4BF0-AEC3-221752754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7C1BC-D38A-426D-98B6-0DF7D8BD4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9DCCB6-0DA2-44D3-BFB2-7F1055CBE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85316-63F8-4216-AA33-991F813AF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8240D8-F922-423A-92C7-665C69655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1CD69A-EC90-455B-868D-E5AFFA4DD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E9AA0A-F651-482E-B7F4-550F162B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2B0A52-022B-4836-BA3E-12BBE74EC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29F83-0E52-41A8-8349-0D9DA572B899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000"/>
            </a:xfrm>
            <a:custGeom>
              <a:avLst/>
              <a:gdLst>
                <a:gd name="textAreaLeft" fmla="*/ 0 w 7444440"/>
                <a:gd name="textAreaRight" fmla="*/ 7444440 w 7444440"/>
                <a:gd name="textAreaTop" fmla="*/ 0 h 486000"/>
                <a:gd name="textAreaBottom" fmla="*/ 486360 h 48600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5360" y="5236200"/>
              <a:ext cx="9092880" cy="786600"/>
            </a:xfrm>
            <a:custGeom>
              <a:avLst/>
              <a:gdLst>
                <a:gd name="textAreaLeft" fmla="*/ 0 w 9092880"/>
                <a:gd name="textAreaRight" fmla="*/ 9093240 w 9092880"/>
                <a:gd name="textAreaTop" fmla="*/ 0 h 786600"/>
                <a:gd name="textAreaBottom" fmla="*/ 786960 h 78660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900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326E2-7FE9-47BC-8C36-F6A469B2788A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BBDDA-238E-4609-AD9B-C71098BD5A6D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6364-3D26-4099-AD11-F6DE4E0CCD3E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F7C8-B94E-4D5A-8E6C-792009DC43E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2AFB4-2693-4114-9488-D79FD3155DE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9D8F-BBCE-4696-9D79-B06C2B681E9B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26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71EDA-4328-4F2E-BCAF-9AFD1428059B}" type="slidenum">
              <a:rPr b="0" lang="en-US" sz="1000" spc="-1" strike="noStrike">
                <a:solidFill>
                  <a:srgbClr val="ffffff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Picture 3" descr="NYSkylineiStock.jpg"/>
          <p:cNvPicPr/>
          <p:nvPr/>
        </p:nvPicPr>
        <p:blipFill>
          <a:blip r:embed="rId1"/>
          <a:stretch/>
        </p:blipFill>
        <p:spPr>
          <a:xfrm>
            <a:off x="838080" y="152280"/>
            <a:ext cx="2819520" cy="33530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4" descr="september_11_attack_7.jpg"/>
          <p:cNvPicPr/>
          <p:nvPr/>
        </p:nvPicPr>
        <p:blipFill>
          <a:blip r:embed="rId2"/>
          <a:stretch/>
        </p:blipFill>
        <p:spPr>
          <a:xfrm>
            <a:off x="5334120" y="228600"/>
            <a:ext cx="2057400" cy="317484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5" descr="sept11.jpg"/>
          <p:cNvPicPr/>
          <p:nvPr/>
        </p:nvPicPr>
        <p:blipFill>
          <a:blip r:embed="rId3"/>
          <a:stretch/>
        </p:blipFill>
        <p:spPr>
          <a:xfrm>
            <a:off x="4724280" y="3581280"/>
            <a:ext cx="2724120" cy="304812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6" descr="wtc_arp_500pix.jpg"/>
          <p:cNvPicPr/>
          <p:nvPr/>
        </p:nvPicPr>
        <p:blipFill>
          <a:blip r:embed="rId4"/>
          <a:stretch/>
        </p:blipFill>
        <p:spPr>
          <a:xfrm>
            <a:off x="457200" y="3886200"/>
            <a:ext cx="3048120" cy="2819520"/>
          </a:xfrm>
          <a:prstGeom prst="rect">
            <a:avLst/>
          </a:prstGeom>
          <a:ln w="0">
            <a:noFill/>
          </a:ln>
        </p:spPr>
      </p:pic>
      <p:sp>
        <p:nvSpPr>
          <p:cNvPr id="374" name="Right Arrow 7"/>
          <p:cNvSpPr/>
          <p:nvPr/>
        </p:nvSpPr>
        <p:spPr>
          <a:xfrm>
            <a:off x="3809880" y="1676520"/>
            <a:ext cx="1143000" cy="533160"/>
          </a:xfrm>
          <a:prstGeom prst="rightArrow">
            <a:avLst>
              <a:gd name="adj1" fmla="val 50000"/>
              <a:gd name="adj2" fmla="val 50022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Curved Left Arrow 8"/>
          <p:cNvSpPr/>
          <p:nvPr/>
        </p:nvSpPr>
        <p:spPr>
          <a:xfrm>
            <a:off x="7620120" y="2133720"/>
            <a:ext cx="990360" cy="2895480"/>
          </a:xfrm>
          <a:custGeom>
            <a:avLst/>
            <a:gdLst>
              <a:gd name="textAreaLeft" fmla="*/ 132480 w 990360"/>
              <a:gd name="textAreaRight" fmla="*/ 857880 w 990360"/>
              <a:gd name="textAreaTop" fmla="*/ 631080 h 2895480"/>
              <a:gd name="textAreaBottom" fmla="*/ 214056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3561465"/>
                <a:lnTo>
                  <a:pt x="5400" y="21301"/>
                </a:lnTo>
                <a:lnTo>
                  <a:pt x="0" y="19753"/>
                </a:lnTo>
                <a:lnTo>
                  <a:pt x="5400" y="17606"/>
                </a:lnTo>
                <a:lnTo>
                  <a:pt x="5400" y="18530"/>
                </a:lnTo>
                <a:arcTo wR="21600" hR="9415" stAng="3561465" swAng="-3413863"/>
                <a:lnTo>
                  <a:pt x="21496" y="10338"/>
                </a:lnTo>
                <a:arcTo wR="21600" hR="9415" stAng="-147601" swAng="-5252399"/>
                <a:close/>
              </a:path>
              <a:path fill="darkenLess" w="21600" h="21600">
                <a:moveTo>
                  <a:pt x="0" y="0"/>
                </a:moveTo>
                <a:arcTo wR="21600" hR="9415" stAng="-5400000" swAng="5400000"/>
                <a:lnTo>
                  <a:pt x="21600" y="11262"/>
                </a:lnTo>
                <a:arcTo wR="21600" hR="9415" stAng="0" swAng="-147601"/>
                <a:lnTo>
                  <a:pt x="21496" y="10338"/>
                </a:lnTo>
                <a:arcTo wR="21600" hR="9415" stAng="-147601" swAng="-5252399"/>
                <a:close/>
              </a:path>
            </a:pathLst>
          </a:cu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eft Arrow 9"/>
          <p:cNvSpPr/>
          <p:nvPr/>
        </p:nvSpPr>
        <p:spPr>
          <a:xfrm>
            <a:off x="3733920" y="4952880"/>
            <a:ext cx="685800" cy="533520"/>
          </a:xfrm>
          <a:prstGeom prst="leftArrow">
            <a:avLst>
              <a:gd name="adj1" fmla="val 50000"/>
              <a:gd name="adj2" fmla="val 49989"/>
            </a:avLst>
          </a:prstGeom>
          <a:solidFill>
            <a:srgbClr val="ff0000"/>
          </a:solidFill>
          <a:ln w="55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990720" y="1066680"/>
            <a:ext cx="7772400" cy="475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SHARIFAH BT KADIR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PB08021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TITLE: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Lucida Sans Unicode"/>
              </a:rPr>
              <a:t>RISK MANAGEMENT PLAN AND PROJECT MANAGEMENT PERFORMANCE</a:t>
            </a:r>
            <a:endParaRPr b="0" lang="en-US" sz="4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3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3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 txBox="1"/>
          <p:nvPr/>
        </p:nvSpPr>
        <p:spPr>
          <a:xfrm>
            <a:off x="457200" y="12952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Background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9 knowledge area in project management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Objectiv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To investigate the importance of risk management plan and its effects on project management performa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Research question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is the standard measure for a risk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lan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What are the important of risk management plan in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project manageme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-How is the risk management plan effect on project 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management performance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roject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project management performanc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Risk managemen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-risk management pla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1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Instru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urvey questionnai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Sit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roject management based organization in Kuanta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housing and developm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event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-petrochemical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Participant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200 project manag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Sans Unicode"/>
              </a:rPr>
              <a:t>Data collection techniqu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3" name="Title 2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Content Placeholder 3" descr="worlds_tallest_building_burj_dubai_klcc_tower_skyscrapper.png"/>
          <p:cNvPicPr/>
          <p:nvPr/>
        </p:nvPicPr>
        <p:blipFill>
          <a:blip r:embed="rId1"/>
          <a:stretch/>
        </p:blipFill>
        <p:spPr>
          <a:xfrm>
            <a:off x="838080" y="1219320"/>
            <a:ext cx="2057400" cy="2286000"/>
          </a:xfrm>
          <a:prstGeom prst="rect">
            <a:avLst/>
          </a:prstGeom>
          <a:ln w="0">
            <a:noFill/>
          </a:ln>
        </p:spPr>
      </p:pic>
      <p:pic>
        <p:nvPicPr>
          <p:cNvPr id="385" name="Title 2" descr=""/>
          <p:cNvPicPr/>
          <p:nvPr/>
        </p:nvPicPr>
        <p:blipFill>
          <a:blip r:embed="rId2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61874061_f683685f4a.jpg"/>
          <p:cNvPicPr/>
          <p:nvPr/>
        </p:nvPicPr>
        <p:blipFill>
          <a:blip r:embed="rId3"/>
          <a:stretch/>
        </p:blipFill>
        <p:spPr>
          <a:xfrm>
            <a:off x="762120" y="3962520"/>
            <a:ext cx="3022560" cy="27432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5" descr="1320klcc20garden20and20petronas20towers1.jpg"/>
          <p:cNvPicPr/>
          <p:nvPr/>
        </p:nvPicPr>
        <p:blipFill>
          <a:blip r:embed="rId4"/>
          <a:stretch/>
        </p:blipFill>
        <p:spPr>
          <a:xfrm>
            <a:off x="5029200" y="838080"/>
            <a:ext cx="350532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4T15:06:17Z</dcterms:created>
  <dc:creator>user</dc:creator>
  <dc:description/>
  <dc:language>en-US</dc:language>
  <cp:lastModifiedBy>user</cp:lastModifiedBy>
  <dcterms:modified xsi:type="dcterms:W3CDTF">2010-04-11T09:53:17Z</dcterms:modified>
  <cp:revision>23</cp:revision>
  <dc:subject/>
  <dc:title>Slide 1</dc:title>
</cp:coreProperties>
</file>