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B84-9C27-477A-9AA7-F28FFB3C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8B6-55C0-4FA7-95F0-C89994E0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F52-3226-46CE-8D38-7820E87F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09F-26F5-472C-B0B7-C8FF0BF4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F79F-7230-432B-A7A0-7569227A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C254-4360-4713-BE3F-92E90BCE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C989-9034-4B01-AF0D-4A5C9523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E4AE-E8E0-4248-B309-A36C7850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2F2D-B261-4B82-BC95-F5C015A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6F51-8D3B-4125-8DDC-1BBAA2A8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5564-7ED8-46C1-97F5-F93C606D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FFF-3752-4444-8D27-D2489CC2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C5E3-8B4E-47A7-ACF4-C25A56F6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B1CE-269D-43E8-91D8-14B638B3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BFB1-012A-4685-A3B7-FF7549B3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29C2-F64E-44BF-BEF9-E34F686F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5D7F-8B61-45AC-9D49-D8823388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58C0-1B5F-47D5-8517-372CD1FA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8C90-8B90-434E-99EB-5A94517B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32D1-346A-4D87-9CBB-B220174D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177E-C2DC-4534-AABA-7EA7C3DB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1DE3-349C-479D-995C-EC2FD129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00E-6F38-442B-9688-D76898B5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F29B-FBC0-4597-B32F-2C35604D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C560-60BF-4513-95FF-BF2ED145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B783-0DE8-4F16-A683-B15FEE1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597D-4CC6-4FA6-9895-969F7585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ED11-C571-4033-8A12-6866C07E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9CF4-7B57-4634-BDC2-65313DF9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C62D2-12E2-4A15-83F5-E7E84AAE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6F53-17FD-4673-8257-5A5CADBC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0558-03F7-4FEC-A117-E57BABAA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2703-72AE-4118-A726-044DD1B3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6F1-6518-4C76-B07F-D708C61C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8167-1035-4C5F-B08E-F25CB7B2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BCB2E-B5D2-4345-B7E3-0EBF747A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06201-6FB6-4467-976C-D38F8F6C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2231-D507-43C8-948A-2E64C136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CD39-50F0-48EF-8F9D-5BEC53C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D50E0-352D-4123-B87F-30B49EF2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1CC45-43DB-4ADF-82B4-108EB635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D8CD1-5AA6-4121-8DD8-FA97B0DA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82F4-E299-4FFF-96A4-E75DC8C1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FB91-F0FA-46FD-8665-3654B611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4F3-A264-441C-9C51-CF0D4105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46133-203C-4FAF-94B6-57967373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48596-450F-4637-A87D-9C701B88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5936-4AF3-4713-AB9F-222A8EEE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1666B-2397-4DAB-BC92-560D1CE4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1029F-AB68-4E94-9389-5C76FA3C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8A39B-8251-4DC9-9C61-B7323600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AE6BD-AF87-4603-9AC3-A2A9655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76FA-87CD-4603-8857-B743CB4A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DE03E-9440-4901-8097-F579F990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A15F-D753-40FB-A7AC-B649E84A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F59-A4FD-48D8-A2A3-5F829FA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40E15-51ED-4E4B-9148-61A55D79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29331-58F5-43FD-AD17-0406D069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9DDB2-F445-444E-9E62-01D1EE4D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07186-FA13-43C6-BDEE-CB934368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5509B-931F-452B-9D5E-41B77F6B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8AAE9-A537-4F12-8016-5B1836AD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257CF-4F2F-4DE0-A369-DA2DD07D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847D-1977-4F19-8B87-46220F64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D7666-397B-440F-B303-E33D6BFB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A22CE-E2F3-4D07-809C-D5E2F0C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BFC-6C3D-442A-9677-372C70A3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3B671-07EA-497D-895D-8AA8F9AE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5364B-28D1-4D9E-8C62-8F5781FB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4F8ED-327F-4F89-BFCE-093D7662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C07FA-DC77-41E9-9D3B-8377A647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62B63-381A-41A9-ADE8-8030EDF0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4B32E-4F9E-4350-B91E-F8F6FBA5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1459E-5DFD-4005-99BE-D0AC48DA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C515-5D14-4ED4-87F2-0125A573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00BC1-B0A2-4436-BF1A-AC609231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12A19-6FBD-4F86-BF2E-FA92A4C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E8A-EF40-46AE-B2FA-BEA19FE0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394F0-460F-4C9C-8045-4153CCE8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2AD57-5E2C-40E7-AF14-99E8E807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1A301-4E82-46C4-832F-1C997465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1B037-7E44-4E02-AAB8-165CBC9A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CE5F0-0510-4246-BED9-562EB765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90615-D8EC-40DC-8F34-A0B1C00B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975A1-0586-4164-8B36-87E3AE56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059DE-857E-4C32-9ADB-8FE9234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0820B-D9B9-4CBA-8638-EA9793C1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4E927-7A05-459F-8BFD-3522AA02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77C-0B19-4CD5-8669-2E733D5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B19CB-5169-4F1B-BAAC-1E8716A3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EAE46-EAF1-4B30-BB48-A3EF02EB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D5C51-D164-4EB5-B7FC-AFC3C58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B229-DDAF-4E0B-BDBD-AFE0B9EC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66BE5-8CF3-40C0-BD42-80590FFE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A133-A1AF-46FE-BC38-14E19BBF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BD57C-C8C7-4730-B883-0590394A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8E43-E60E-4B3F-827B-F8D9069DD54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CE1B-5FEF-44E9-9D16-494119F8CD8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2FB-E1B7-48BF-BB12-FFB6ABA6B5E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D04A-7DE6-4C52-91DD-0C65E4C44F0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C77E-FFF4-4258-8873-B331531D02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EE12-EF31-4B88-B54A-44D2B45B036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08AF-DB37-4AA7-BACA-21AD383A37C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2E57-46DC-4C04-8012-9957090B69C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NYSkylineiStock.jpg"/>
          <p:cNvPicPr/>
          <p:nvPr/>
        </p:nvPicPr>
        <p:blipFill>
          <a:blip r:embed="rId1"/>
          <a:stretch/>
        </p:blipFill>
        <p:spPr>
          <a:xfrm>
            <a:off x="838080" y="152280"/>
            <a:ext cx="2819520" cy="335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september_11_attack_7.jpg"/>
          <p:cNvPicPr/>
          <p:nvPr/>
        </p:nvPicPr>
        <p:blipFill>
          <a:blip r:embed="rId2"/>
          <a:stretch/>
        </p:blipFill>
        <p:spPr>
          <a:xfrm>
            <a:off x="5334120" y="228600"/>
            <a:ext cx="2057400" cy="317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sept11.jpg"/>
          <p:cNvPicPr/>
          <p:nvPr/>
        </p:nvPicPr>
        <p:blipFill>
          <a:blip r:embed="rId3"/>
          <a:stretch/>
        </p:blipFill>
        <p:spPr>
          <a:xfrm>
            <a:off x="4724280" y="35812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wtc_arp_500pix.jpg"/>
          <p:cNvPicPr/>
          <p:nvPr/>
        </p:nvPicPr>
        <p:blipFill>
          <a:blip r:embed="rId4"/>
          <a:stretch/>
        </p:blipFill>
        <p:spPr>
          <a:xfrm>
            <a:off x="457200" y="38862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374" name="Right Arrow 7"/>
          <p:cNvSpPr/>
          <p:nvPr/>
        </p:nvSpPr>
        <p:spPr>
          <a:xfrm>
            <a:off x="3809880" y="1676520"/>
            <a:ext cx="114300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urved Left Arrow 8"/>
          <p:cNvSpPr/>
          <p:nvPr/>
        </p:nvSpPr>
        <p:spPr>
          <a:xfrm>
            <a:off x="7620120" y="2133720"/>
            <a:ext cx="990360" cy="2895480"/>
          </a:xfrm>
          <a:custGeom>
            <a:avLst/>
            <a:gdLst>
              <a:gd name="textAreaLeft" fmla="*/ 132480 w 990360"/>
              <a:gd name="textAreaRight" fmla="*/ 857880 w 990360"/>
              <a:gd name="textAreaTop" fmla="*/ 631080 h 2895480"/>
              <a:gd name="textAreaBottom" fmla="*/ 21405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3561465"/>
                <a:lnTo>
                  <a:pt x="5400" y="21301"/>
                </a:lnTo>
                <a:lnTo>
                  <a:pt x="0" y="19753"/>
                </a:lnTo>
                <a:lnTo>
                  <a:pt x="5400" y="17606"/>
                </a:lnTo>
                <a:lnTo>
                  <a:pt x="5400" y="18530"/>
                </a:lnTo>
                <a:arcTo wR="21600" hR="9415" stAng="3561465" swAng="-3413863"/>
                <a:lnTo>
                  <a:pt x="21496" y="10338"/>
                </a:lnTo>
                <a:arcTo wR="21600" hR="9415" stAng="-147601" swAng="-5252399"/>
                <a:close/>
              </a:path>
              <a:path fill="darkenLess"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-147601"/>
                <a:lnTo>
                  <a:pt x="21496" y="10338"/>
                </a:lnTo>
                <a:arcTo wR="21600" hR="9415" stAng="-147601" swAng="-5252399"/>
                <a:close/>
              </a:path>
            </a:pathLst>
          </a:cu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eft Arrow 9"/>
          <p:cNvSpPr/>
          <p:nvPr/>
        </p:nvSpPr>
        <p:spPr>
          <a:xfrm>
            <a:off x="3733920" y="4952880"/>
            <a:ext cx="6858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1066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HARIFAH BT KADIR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PB08021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TITLE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RISK MANAGEMENT PLAN AND PROJECT MANAGEMENT PERFORMANC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2952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ckgrou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9 knowledge area in project manage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investigate the importance of risk management plan and its effects on project management perform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earch ques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is the standard measure for a risk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la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are the important of risk management plan in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ject manageme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How is the risk management plan effect on project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erformanc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project management perform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sk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stru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rvey questionnai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roject management based organization in Kuanta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housing and develop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ev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petrochemical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ticipan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00 project manag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ata collection techniqu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Content Placeholder 3" descr="worlds_tallest_building_burj_dubai_klcc_tower_skyscrapper.png"/>
          <p:cNvPicPr/>
          <p:nvPr/>
        </p:nvPicPr>
        <p:blipFill>
          <a:blip r:embed="rId1"/>
          <a:stretch/>
        </p:blipFill>
        <p:spPr>
          <a:xfrm>
            <a:off x="838080" y="12193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61874061_f683685f4a.jpg"/>
          <p:cNvPicPr/>
          <p:nvPr/>
        </p:nvPicPr>
        <p:blipFill>
          <a:blip r:embed="rId3"/>
          <a:stretch/>
        </p:blipFill>
        <p:spPr>
          <a:xfrm>
            <a:off x="762120" y="3962520"/>
            <a:ext cx="3022560" cy="274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1320klcc20garden20and20petronas20towers1.jpg"/>
          <p:cNvPicPr/>
          <p:nvPr/>
        </p:nvPicPr>
        <p:blipFill>
          <a:blip r:embed="rId4"/>
          <a:stretch/>
        </p:blipFill>
        <p:spPr>
          <a:xfrm>
            <a:off x="5029200" y="838080"/>
            <a:ext cx="350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06:17Z</dcterms:created>
  <dc:creator>user</dc:creator>
  <dc:description/>
  <dc:language>en-US</dc:language>
  <cp:lastModifiedBy>user</cp:lastModifiedBy>
  <dcterms:modified xsi:type="dcterms:W3CDTF">2010-04-11T09:53:17Z</dcterms:modified>
  <cp:revision>23</cp:revision>
  <dc:subject/>
  <dc:title>Slide 1</dc:title>
</cp:coreProperties>
</file>